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7AB-9214-43BE-B7F3-A48DB35B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ECB-AA10-4170-B3B8-FA370D40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7FC-11CD-4557-ABF0-CF1ED7BB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A56-E23F-4E92-A69B-E98FF118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288-DFAE-4F24-91B0-BF2A4B5C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610-A9E3-49DC-8A82-5A1BF223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6FA-6367-40CA-B306-F91DB34E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EFB-F1D7-4876-84CD-202C5C8B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A63-B531-422B-88A6-68A1D490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4E2-C151-4168-82D7-CAB2A908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51D-3947-492D-B2D9-7301C9E4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1F1-3B71-4503-9A6B-81EDC5BD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E7C5-16A7-41D4-80CD-FE970E60D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camec2010.ning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oly Child Academ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hanging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hanging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33791"/>
          <a:stretch/>
        </p:blipFill>
        <p:spPr>
          <a:xfrm>
            <a:off x="380880" y="0"/>
            <a:ext cx="76201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010 and Beyo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reless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 owned laptops for Grades 7 &amp;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Based Discovery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eacher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WEB 3.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266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The Information Revolution”</a:t>
            </a:r>
            <a:br>
              <a:rPr sz="4400"/>
            </a:b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To the tune of:</a:t>
            </a:r>
            <a:br>
              <a:rPr sz="4400"/>
            </a:b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“We Didn’t Start the Fire” </a:t>
            </a:r>
            <a:br>
              <a:rPr sz="4400"/>
            </a:b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by Billy Joe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r chip, calculators, integrated circuit break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x machines, satellites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 the phone, up all night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in frames, PC’s , synthesizers, Apple 2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ve Jobs, Bill Gates,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al U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in Every St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ine, World Wide Web, Hyperlink, AIM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fox, Netscape, Java Script, Elluminate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cast, RSS, Wikis and Deliciou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ebook, Ningin’ It, Twitter, Blogs and Google 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 didn’t start the fire,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t was always burnin’,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ince the world’s been turnin’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 gonna SPARK the fire,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o keep them learnin’,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s the world keeps turnin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ur Go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e faculty and administration to importance of Web 2.0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monstrate integration of web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vide professional development 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ere We 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the s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pple effec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s, Blogs, Glogs, Twitter, Google R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nge &amp; the Future Face of H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camec2010.ning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faculty comfor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the value in using th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updated downloa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’s Happening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g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,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y Child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c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3505320" cy="2630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7365" t="10405" r="1632" b="8348"/>
          <a:stretch/>
        </p:blipFill>
        <p:spPr>
          <a:xfrm>
            <a:off x="5181480" y="4038480"/>
            <a:ext cx="35053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ere We Want to Go in 2009 - 20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aculty Implemen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udent Appl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arent Edu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aculty Implemen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952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rsion into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to use one tool a sem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 Seminars – Introduce Web 2.0 tools in day long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 Tuesdays” – Review one tool per mont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Men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14550" b="34916"/>
          <a:stretch/>
        </p:blipFill>
        <p:spPr>
          <a:xfrm>
            <a:off x="4800600" y="2286000"/>
            <a:ext cx="41911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udent Appli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Bas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resources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, Deli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ades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x Mus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7038" t="0" r="10560" b="6329"/>
          <a:stretch/>
        </p:blipFill>
        <p:spPr>
          <a:xfrm>
            <a:off x="5257800" y="91440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16924" r="17499" b="18214"/>
          <a:stretch/>
        </p:blipFill>
        <p:spPr>
          <a:xfrm>
            <a:off x="5257800" y="1600200"/>
            <a:ext cx="3657600" cy="2157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0" t="0" r="14550" b="21900"/>
          <a:stretch/>
        </p:blipFill>
        <p:spPr>
          <a:xfrm>
            <a:off x="5257800" y="2819520"/>
            <a:ext cx="3733920" cy="256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257800" y="3941640"/>
            <a:ext cx="38862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5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25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arent 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Web 2.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priat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top N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School laptop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7463" r="29299" b="0"/>
          <a:stretch/>
        </p:blipFill>
        <p:spPr>
          <a:xfrm>
            <a:off x="5105520" y="1143000"/>
            <a:ext cx="3276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956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 Lesson Plans through 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er Eval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 observer and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 Eval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ort created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3:25:29Z</dcterms:created>
  <dc:creator>mcameron</dc:creator>
  <dc:description/>
  <dc:language>en-US</dc:language>
  <cp:lastModifiedBy>jmoleski</cp:lastModifiedBy>
  <dcterms:modified xsi:type="dcterms:W3CDTF">2009-03-24T21:07:43Z</dcterms:modified>
  <cp:revision>30</cp:revision>
  <dc:subject/>
  <dc:title>Holy Child Academy</dc:title>
</cp:coreProperties>
</file>